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B258-B3CF-4BFD-AD7F-DAB86096E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6361-C451-4260-AC20-E3757EEC5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EB71-A217-4E73-A64E-7D64F443D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9320-0B7E-4537-A33F-4922A63B8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F496-11EA-48AE-8A94-8F7045875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5A2E-1C6F-4071-85FF-E933BFA7F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8ED4-94B6-401B-8880-ADCE0236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D15B-421B-43ED-818E-630329C7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EE1A-5EE7-48CB-999D-FDC3091B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9283-55D3-4820-BD16-4411C5DC7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8FEF-1ED4-451E-AC64-269F45F55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1E8D-1520-440D-BCA2-6E7C45D3C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40080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0080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5" name="Text Box 47"/>
          <p:cNvSpPr/>
          <p:nvPr/>
        </p:nvSpPr>
        <p:spPr>
          <a:xfrm>
            <a:off x="1600200" y="6324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  <a:ea typeface="Arial"/>
              </a:rPr>
              <a:t>Heavy Hands: An Introduction to the Crime of Intimate and Family Violence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  <a:ea typeface="Arial"/>
              </a:rPr>
              <a:t>, </a:t>
            </a:r>
            <a:r>
              <a:rPr b="0" i="1" lang="en-US" sz="900" spc="-1" strike="noStrike">
                <a:solidFill>
                  <a:srgbClr val="ffffff"/>
                </a:solidFill>
                <a:latin typeface="Verdana"/>
                <a:ea typeface="Arial"/>
              </a:rPr>
              <a:t>Fifth Edition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  <a:ea typeface="Arial"/>
              </a:rPr>
              <a:t>, Denise Gossel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  <a:ea typeface="Arial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39612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1016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3240" y="0"/>
            <a:ext cx="9140760" cy="1600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Verdana"/>
              </a:rPr>
              <a:t>Heavy Han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5123160" y="2971800"/>
            <a:ext cx="16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Chap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47"/>
          <p:cNvSpPr/>
          <p:nvPr/>
        </p:nvSpPr>
        <p:spPr>
          <a:xfrm>
            <a:off x="1600200" y="6477120"/>
            <a:ext cx="3429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  <a:ea typeface="Arial"/>
              </a:rPr>
              <a:t>Heavy Hands: An Introduction to the Crime of Intimate and Family Violence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  <a:ea typeface="Arial"/>
              </a:rPr>
              <a:t>, </a:t>
            </a:r>
            <a:r>
              <a:rPr b="0" i="1" lang="en-US" sz="900" spc="-1" strike="noStrike">
                <a:solidFill>
                  <a:srgbClr val="ffffff"/>
                </a:solidFill>
                <a:latin typeface="Verdana"/>
                <a:ea typeface="Arial"/>
              </a:rPr>
              <a:t>Fifth Edition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  <a:ea typeface="Arial"/>
              </a:rPr>
              <a:t>, Denise Gossel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  <a:ea typeface="Arial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2819520" y="1295280"/>
            <a:ext cx="3429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5029200" y="3809880"/>
            <a:ext cx="38098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4952880" y="3809880"/>
            <a:ext cx="39625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Working Ms Roboto\Gary Bauer\2014 Supplements\Gosselin\PPTs - Laura Becker\Gosselin 5e cover.jpg"/>
          <p:cNvPicPr/>
          <p:nvPr/>
        </p:nvPicPr>
        <p:blipFill>
          <a:blip r:embed="rId4"/>
          <a:stretch/>
        </p:blipFill>
        <p:spPr>
          <a:xfrm>
            <a:off x="762120" y="1905120"/>
            <a:ext cx="3370320" cy="42163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40080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0080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7"/>
          <p:cNvSpPr/>
          <p:nvPr/>
        </p:nvSpPr>
        <p:spPr>
          <a:xfrm>
            <a:off x="1600200" y="6324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  <a:ea typeface="Arial"/>
              </a:rPr>
              <a:t>Heavy Hands: An Introduction to the Crime of Intimate and Family Violence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  <a:ea typeface="Arial"/>
              </a:rPr>
              <a:t>, </a:t>
            </a:r>
            <a:r>
              <a:rPr b="0" i="1" lang="en-US" sz="900" spc="-1" strike="noStrike">
                <a:solidFill>
                  <a:srgbClr val="ffffff"/>
                </a:solidFill>
                <a:latin typeface="Verdana"/>
                <a:ea typeface="Arial"/>
              </a:rPr>
              <a:t>Fifth Edition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  <a:ea typeface="Arial"/>
              </a:rPr>
              <a:t>, Denise Gossel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  <a:ea typeface="Arial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4103B-0749-4E64-BBFA-FE60DECF01CF}" type="slidenum"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itle 1"/>
          <p:cNvSpPr/>
          <p:nvPr/>
        </p:nvSpPr>
        <p:spPr>
          <a:xfrm>
            <a:off x="4267080" y="4114800"/>
            <a:ext cx="4648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ay and Lesbia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tner Ab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6736320" y="2558880"/>
            <a:ext cx="66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Verdana"/>
                <a:ea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Gay Male Survivor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imate partner abuse is a leading health problem facing gay me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ay and bisexual men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st overcome social barriers that prevent others from seeing their abuse as legitimat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nd not to report intimate partner abus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e likely to deny or minimize the abuse that is perpetrated against th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Lesbian Survivor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imate partner violence is epidemic in the lesbian community and remains largely hidd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lesbian community clings to a utopian existence that fails to acknowledge that IPV is occurring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reluctance to discuss IPV is harmful to its victims, leaving them isolated and reject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orms of Abus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ysical Ab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al violence that invokes fear of the abuser and causes the victim to modify his or her behavior in response to the assault or potential assault is physical abus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tting, beating, pushing, slapping, kicking, pulling hair, biting, punching, burning, and arm twisting are examples of abusive physical assaults that may also rise to the level of criminal behavior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unn, P. (2012). Men as victims: “Victim” identities, gay identities, and masculinities.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Journal of Interpersonal Violence, 27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17), 3442–3467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orms of Abus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xual Ab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xual partner abuse includes any forced behavior intended to demean or humiliate the partner and instigate feelings of shame or vulnerabilit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meaning remarks about the partner’s appearance or background, berating the partner, and withholding sex as a punishment are abusive in natur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 forms of sexual abuse constitute criminal behavior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unn, P. (2012). Men as victims: “Victim” identities, gay identities, and masculinities.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Journal of Interpersonal Violence, 27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17), 3442–3467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orms of Abus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otional/Psychological Ab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king repeated hurtful exchanges with disregard for the partner’s feelings, which are meant to control the victim, is an abuse of the relationship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imacy is not an invitation for exploitat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cial isolation and manipulation are forms of emotional abuse often used as tactics to set up the relationship for further controlling behavior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orms of Abus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conomic Ab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the use or misuse of financial or other monetary resources of the partnershi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ling a person’s employment by trying to get him/her fired, making excessive calls to work, or creating scenes are examples of efforts to control the victim’s financial situation and force dependenc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ing the partner’s identity, credit cards, checks, or money without permission is economic abuse that may rise to the level of criminal behavio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orms of Abus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ty Ab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the threat of “outing” and exposure to homophobia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ing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the act of exposing someone as a homosexual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lling family, boss, or neighbors about a victim’s identity may jeopardize personal relationships and the person’s job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reatening to “out” someone can cause anxiety and increase the person’s isola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essinger, A. M. (2011). Invisible victims: Same-sex IPV in the National Violence Against Women Survey.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Journal of Interpersonal Violence, 26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11), 2228–2243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oretical Explanation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minist Approac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ten used to describe the context of battering within LGBT relationships as well as heterosexual relationship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wo-pronged analysis of the abuse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01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use is influenced by numerous sources of oppression that exist within the lives of gay and bisexual survivo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01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ppression from society may cause stress in a relationship and lowered self-este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Hassouneh, D., &amp; Gloss, N. (2008). The influence of gender role stereotyping on women’s experiences of female same-sex intimate partner violence.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Violence Against Women, 14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3), 15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oretical Explanation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sychological Mod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s that the feminist approach is inadequate to fully explain same-sex partner abuse, since both men and women can be perpetrato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ociopolitical context of homophobia and internalized homophobia create the environment that supports relationship abus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sonal characteristics may also influence the choice to use abuse in relationship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oretical Explanation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sychological Mod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rimary focus is on the institution of famil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stigates stressors specifically related to the families, and how these stressors result in violence between partner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ch stressors could include socioeconomic status, race, sexuality, income, education, beliefs regarding traditional gender roles, and relig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hapter Objectiv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ive examples of violence occurring in LGBT relationships specific to the popula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why an understanding of intimate partner violence in the LGBT community is vit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theoretical explanations for abuse in the LGBT communit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the problems for the LGBT community in accessing criminal justice interventi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how the Full Faith and Credit requirement impacts violence in same-gendered relationshi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oretical Explanation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nalized Homophob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rnalized stress due to homophob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ists of condemnation, loathing, fear, societal disdain, and religious rejection of all things homosexual and of those who practice i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times called internalized homonegativit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rnalization of negative societal and environmental attitudes against the LGBT popula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riminal Justice Intervention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ventions vary based on the severity of the incident and whether or not the act is a crim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otional or psychological abuses may not be criminal, even though they may be considered abusive and cause mental anguish, loss of self-esteem, or loss of self-respect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riminal Justice Intervention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riminal justice system is reactive rather than proactiv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reacts through police action and by court intervention when an act rises to the level of violating criminal law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n act to be legally considered domestic violence, the individuals must fall within the state’s definition of a domestic relationship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actors in Reporting to the Polic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olence perpetrated by a same-sex partner can be confusing to law enforcement office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ereotypical responses by police can be devastating to the victi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ditionally, police officers have looked at gender and physical size when determining who is at fault in a domestic disput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actors in Reporting to the Polic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arer picture of who is in need of protection must be made in same-sex violenc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rimary aggressor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the person in a domestic dispute who is the most significant or principal aggress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Legal Issu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e-sex victims receive fewer legal protectio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ay and lesbian victims may not have civil nor criminal protections from abuse unless the definition of “domestic” is recognized and attain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ort services are often unavailable to LGBT survivo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ery few shelters and hotlines exist for LGBT individual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sbian, gay, bisexual, and transgendered (LGBT) commun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made up of individuals from every ethnic and racial background residing in the U.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s are particularly vulnerable to marginalization and devaluation in our soci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willingness to acknowledge intimate partner violence comes from within the community as well as from outsid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efinition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GB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acronym for lesbian, gay, bisexual, and transgendered (or trans) individuals; sometimes written as GLB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demographic category, similar to race/ethnicity, sex, disability, and so 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d for large numbers of people who have major characteristics in common, although they are certainly not “the same.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efinition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sbian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— A person who identifies as a woman and whose sexual orientation is primarily to other wom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ay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— Refers to a person who identifies as a man and whose sexual orientation is primarily to other m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ay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homosexual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— Terms that are often used interchangeably to refer to either gay males or lesbian femal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efinition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5998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nsgender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— A term used to describe a group of individuals whose gender identity, and how it is expressed, is different from the sex assigned at birt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Queer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— A controversial term that some LGBT people have reclaim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erm is broadly inclusive and can refer either to gender identity, sexual orientation, or both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times used as an umbrella term to describe LGBT communiti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Lesbian Intimate Partner Violenc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sbian Intimate Partner Violence (LPV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ists of a pattern of violent or coercive behaviors that are committed by a lesbian against her lesbian partner for the purpose of controlling the partner’s thoughts, beliefs, or conduc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y be physical, sexual, emotional, economic, or identity abuse, which is used to maintain or punish the partner for resisting the perpetrator’s control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Gay Male Intimate Partner Violenc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ay Male Intimate Partner Violenc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y unwanted physical force, psychological abuse, or material or property damage inflicted by one man on anothe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buse consists of a pattern of violent behaviors for the purpose of controlling the partner’s thoughts, beliefs, or condu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Prevalence of Abus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st of the reports on intimate partner violence come from small sample groups or convenience samples from the LGBT communit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 a result, the prevalence figures must be viewed with caut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do not know exactly how much LGBT intimate partner violence exists, in part because of the hidden nature of LGBT relationship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2T18:08:08Z</dcterms:created>
  <dc:creator>Owner</dc:creator>
  <dc:description/>
  <dc:language>en-US</dc:language>
  <cp:lastModifiedBy>Cecil, Kevin</cp:lastModifiedBy>
  <dcterms:modified xsi:type="dcterms:W3CDTF">2013-09-16T14:05:08Z</dcterms:modified>
  <cp:revision>70</cp:revision>
  <dc:subject/>
  <dc:title>PowerPoint Presentation</dc:title>
</cp:coreProperties>
</file>